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C64-A925-430D-B799-5D3FCFA6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388-A0A4-4B29-9726-3E1BCBEE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934-5F73-4E61-869C-07C985BD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492-7993-4482-B028-74C2C10E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5AA-AACD-4B1F-A89F-4EFF362C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121-90C0-40BA-8A06-E354200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8C5-FF05-4B9E-A087-5CEAEDE2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446-9AC6-4BE1-AA55-2B62D6DD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546-AD77-41A6-8A73-93563DBE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A53-947B-4FFC-8119-CDC409D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C50-9E5F-449B-91C9-0D70B7E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5E7-AB65-4F1E-AAEC-CA56FD81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FC9A-6E7B-4CA8-93ED-27D5ED5E5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9880" y="457200"/>
            <a:ext cx="683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zyfry nie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zyli algorytmy z kluczem publiczny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6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ki, aby algorytm szyfrujący można było nazwać algorytmem niesymetryczny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lucze występują w parach: jeden klucz do szyfrowania i jeden do deszyfr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ublikowanie jednego z kluczy występującego w parze praktycz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 zdradza drugiego z kluc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ykle jeden z kluczy w parze jest powszechnie dostęp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jest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lucz  publicz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to być klucz szyfrujący lub deszyfrujący, w zależności do zastosowań, drugi klucz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lucz prywat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jest trzymany w tajemnicy przez jego posiad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2133720"/>
            <a:ext cx="77724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niemożliwienie podszywanie się innych pod daną osobę (uwierzytelnienie osoby, autentyfikacja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pewnienie wykrywalności wszelkiej zmiany w danych transakcji (integralność transakcji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pewnienie niemożliwości wyparcia się podpisu przez autor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możliwienie weryfikacji podpisu przez osobę niezależn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ztery główne warunki podpisu cyfrow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609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PIS CYFROWY - CZYM J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pis cyfrowy jest unikatową wartością dołączaną do   pliku przez specjalne oprogra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590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PIS CYFROWY- ET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352680"/>
            <a:ext cx="8229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 podstawie zawartości pliku jest obliczana funkcja haszuj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a haszująca generuje jedną wartość na podstawie całej zawartości pl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gram szyfruje tę wartość za pomocą prywatnego klucza szyfrującego użytkow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 koniec program podpisujący zapisuje podpisaną wersję pl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odpis1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295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PIS CYFROWY - weryfikacja nadaw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666880"/>
            <a:ext cx="7772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ruchomienia specjalnego oprogramowania, które odszyfrowuje zhaszowaną wartość podpisu za pomocą publicznego klucza nadaw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haszowaną wartość jest umieszczana w tymczasowym położ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odpis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2362320"/>
            <a:ext cx="6705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gram odszyfrowujący adresata oblicza dla pliku wartość tej samej funkcji haszującej, która została użyta przez nadawc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tość ta funkcji haszującej jest porównywana z odszyfrowaną wcześniej wartością funkcji haszuj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obie wartości są identyczne, to program informuje o autentyczności podpisu nadaw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143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762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PIS CYFROWY - weryfikacja nadawcy ciąg dals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odpis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laczego podpisy cyfrowe są waż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43000"/>
            <a:ext cx="60958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nące znaczenie w handlu, poufnej komunikacji elektronicznej i w przesyłaniu elementów aktyw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pisy cyfrowe mają już obecnie istotne znaczenie dla Internetu, a w przyszłości staną się jednym z najważniejszych narzędzi stosowanych przez firmy i indywidualnych użytkowników w komunikacji przez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181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pisy cyfrowe a podpisy odrę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791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ieństwa,  róż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28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sowanie podpisów cyfrowych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762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duży wpływ na przesyłanie informacji i prowadzenie oficjalnej korespondencji przez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209680"/>
            <a:ext cx="76201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stemy prawne i dokumenty o znaczeniu praw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żywanie przy  dokonywaniu przelewów elektroni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stem elektronicznej wymiany danych EDI (Electronic Data Interchang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osowanie podpisów cyfrowych obejmuje również weryfikację integralności baz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76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zykł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zykład zastosowania w przyszł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6707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łosowanie w wyborach bez wychodzenia z domu, jeżeli będzie możliwa weryfikacja tożsamości wyborcy za pomocą podpisu cyfr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odpis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chemat%20kryptografii%20asymetrycznej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odpis6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— amerykański standard podpisów cyfr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85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ieszczenie z dnia 30 sierpnia 1991 roku instytutu NIST (United States National Institute of Standards and Technology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514600"/>
            <a:ext cx="8915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[standard] znajduje zastosowanie we wszystkich departamentach i agencjach rządowych do ochrony nietajnych informacji.... [standard jest] przeznaczony do stosowania w poczcie elektronicznej, przelewach elektronicznych, elektronicznej wymianie danych, dystrybucji oprogramowania, w gromadzeniu danych i w innych wypadkach, gdy jest wymagane zapewnienie integralności danych i weryfikacja źródła danych (56 rejestr federalny 42981, 30 sierpnia 1991 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— rozwój standar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53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znany również jako państwowy standard przetwarzania danych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P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deral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cessing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ndar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828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ejmuje on standard podpisów cyfrowych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gital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gnature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gorith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819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raz standardy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PS 180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standardu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H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cure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sh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ndar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88620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lgorytm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cure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sh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gorithm), opisany w standardzie S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4952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ym elementem nowego standardu DSS jest algorytm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iffie'go-Hell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4027320"/>
            <a:ext cx="8610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 jest to właściwie algorytm szyfrujący, lecz uzgodniony system opracowywania i wymiany wspólnego prywatnego klucza przez publiczny kanał przesyłowy, bez konieczności wymiany jakichkolwiek poufnych inform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znaczony klucz może być później wykorzystany do szyfrowania danych przy pomocy któregoś z systemów szyfrowych klucza tajnego (np. DES,IDEA,RC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lgoytm Diffie’go-Hell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8380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publikowanie artykułu pod tytułem Nowe Kierunki z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oku przez Panów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hitfielda Diffiego i Martina Hell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286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lgorytm Diffie'ego-Hellmana jest również znany pod nazwami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iffie-HelIman Key Agreement Protoco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xponential Key Agreemen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Diffie-HelIman Key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600200"/>
            <a:ext cx="83818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i B generują klucze sekretne: Sa i S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i B obliczają klucze publiczne: Pa i Pb. Klucz publiczny powstaje w wyniku podniesienia znanej (wspólnej dla A i B) liczby alfa do potęgi klucza sekretneg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 = alfa ^ S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b = alfa ^ S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Klucze publiczne Pa i Pb są wymieniane za pośrednictwem sieci między A i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57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zczegóły metody Diffiego - Hellman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06668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i B obliczają tajny klucz konwersacji - K - stosując ten sam algorytm co przy obliczeniu klucza publiczneg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 = Pb ^ Sa = (alfa ^ Sb ) ^ Sa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b = Pa ^ Sb = (alfa ^ Sa ) ^ S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nieważ potęgowanie jest przemien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alfa ^ Sb) ^ Sa = alfa ^ (Sb * Sa) = (alfa ^ Sa) ^ S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ęc: Ka=Kb A i B mają ten sam klucz ses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a sekretnego nie do się obliczyć logarytmując klucz publiczny - pokazana tu operacja potęgowania jest w rzeczywistości potęgowaniem modulo pewnej b. dużej liczby pierwszej. Operacja taka zachowuje cechy "zwykłego" potęgowania - jest przemienna. Jednak w przeciweństwie do "zwykłego" potęgowania jest nieodwracalna, - gdy podstawa i modulo są dużymi liczbami pierwszymi obliczenie logarytmu jest praktycznie niemożli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zczegóły metody Diffiego - Hellman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- ciąg dals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1080" y="2209680"/>
            <a:ext cx="480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lgorytm 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lgorytm ElGa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lgorytm Diffiego-Hell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algorytmów szyfrowania niesymetrycznego zaliczamy trzy najważniejs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96560" y="38088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gorytm R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9160" y="1752480"/>
            <a:ext cx="5258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lgorytm ten powstał w 1978 rok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go twórcami byl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vest 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amir 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leman Leon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219320"/>
            <a:ext cx="85345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ty algorytmu R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olna długość klucza (w praktyce do 4096 bit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 może pełnić funkcję szyfrującą lub deszyfrującą 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od potrz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y do kodowania informacji jak i do potwierdzan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żsamości nadaw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dy algorytmu R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dzo wolny, wymaga wielu operacji arytmety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k. 1000 razy wolniejszy od np. DES-a), dlatego częs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uje się w połączeniu z innymi algorytma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ytm wykorzystuje duże liczby pierwsze, na uzyskiwani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tórych nie ma algoryt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560" y="38088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gorytm R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64840" y="457200"/>
            <a:ext cx="415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lgorytm ElGama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lety algorytmu ElGam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orazowe szyfrowanie wykorzystuje losowo wygenerowaną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osowany przy szyfrowaniu oraz przy podpisach cyfr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ady algorytmu ElGam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 publiczny jest kluczem do szyfrowania, klucz prywatny jes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em deszyfrując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ryptogramy są dwukrotnie dłuższe niż teksty jaw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korzystuje trudności obliczeniowe tzw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dyskretnych logaryt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60948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równanie bezpieczeństwa w zależności od długości użytego kluc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2286000"/>
          <a:ext cx="7925040" cy="3200400"/>
        </p:xfrm>
        <a:graphic>
          <a:graphicData uri="http://schemas.openxmlformats.org/drawingml/2006/table">
            <a:tbl>
              <a:tblPr/>
              <a:tblGrid>
                <a:gridCol w="2590920"/>
                <a:gridCol w="2630520"/>
                <a:gridCol w="270360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ługość klucza (bit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pieczeństw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yfry niesymetrycz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yfry symetrycz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dzo mał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miarkow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209680"/>
            <a:ext cx="8381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Przekształcenie kryptograficzne danych umożliwiające odbiorcy danych sprawdzenie autentyczności i integral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ych oraz zapewniające nadawcy ochronę przed sfałszowaniem danych przez odbiorcę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762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cja podpisu cyfrowego wg PN-I-02000 (Polska N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2:22:59Z</dcterms:created>
  <dc:creator>.</dc:creator>
  <dc:description/>
  <dc:language>en-US</dc:language>
  <cp:lastModifiedBy>Grzegorz Sobolewski</cp:lastModifiedBy>
  <dcterms:modified xsi:type="dcterms:W3CDTF">2000-11-13T19:41:56Z</dcterms:modified>
  <cp:revision>23</cp:revision>
  <dc:subject/>
  <dc:title>Prezentacja programu PowerPoint</dc:title>
</cp:coreProperties>
</file>